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2FA-F5C3-4072-9D45-1878AC1B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C10-E159-435D-9657-29B5E23F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09D3-BEBD-4B9E-ABD6-83566396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923-5359-415A-95E9-15FECBF4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9D95-B55D-42B3-B2CB-9FA9E046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C362-EB0B-4DD1-8F01-DE220166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E19-F6B7-4DAF-8C47-AC43448B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06A7-AF88-469F-95BE-8F4FC0E3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EC1-9844-45C1-86BD-F7672545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30E-3491-4B89-B7E0-6E457EE0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12EA-E080-43D8-B29E-23963E42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F348-2EC3-4E9F-AE11-54DE1D8F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917E-0623-4FA1-881E-954A60E7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8127-EA55-40C8-B75C-EE701849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EE67-3902-44C4-A0FD-8B6DEB22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D6EE-D88C-4F64-9124-2609018CA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35DF-97A0-44FB-B9C1-6901B681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690-EC51-4530-A570-1C851822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B3B6-2A86-4D1B-9576-ED9CE933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A55-C28A-488A-A1FB-0E2493E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4A3-EF93-4CCE-91DF-F8277E65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1578-0A5E-45ED-8D0B-90E10D4D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95E2-7EF1-4891-9C19-69C25DF3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06E9-0FFD-4475-9269-2DE5E127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83C0-7428-42BC-B930-1825B6B3C6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3319-C2BC-4DCB-B257-1551BB670E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371600" y="1371600"/>
            <a:ext cx="6858000" cy="380988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Fast Food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334120" y="685800"/>
            <a:ext cx="3581280" cy="5638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4286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4419720" cy="4724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2971800" cy="22100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124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895480" y="4114800"/>
            <a:ext cx="2895840" cy="2438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438360" cy="3352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191120" y="2286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19320" y="3657600"/>
            <a:ext cx="1600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790960" y="3657600"/>
            <a:ext cx="14475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00200" y="2057400"/>
            <a:ext cx="6019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Что такое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ast Food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? ”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ast Food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”, если перевести это выражение с английского на русский, это значит, “быстрая еда” или еда которую мы используем для перекус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3276720"/>
            <a:ext cx="342900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800600" y="2819520"/>
            <a:ext cx="4064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мбург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тлетка приготовлена на гриле , и следовательно, может содержать канцерогены. В мясе пищевых добавок нет, а вот в булочке и соусе – масса добавок и прочих неполезных ве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лочка: отбелённая мука пшеницы, высокофруктозный сироп, масло сои с трансжирами, сульфат, карбонат и силикат кальция, соевая мука, эмульгаторы, кондиционеры для теста, консервант пропионат каль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410080" y="1981080"/>
            <a:ext cx="3451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5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5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5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50"/>
                            </p:stCondLst>
                            <p:childTnLst>
                              <p:par>
                                <p:cTn id="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иц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ьно приготовленная пицца, для которой применяют хороший сыр и овощи, может быть полезной и вкусной. Но для фаст фуда часто используют самые дешёвые компоненты и массу пищевых добавок, делая этот продукт неполез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952880" y="1676520"/>
            <a:ext cx="3810240" cy="2266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181480" y="4019400"/>
            <a:ext cx="35816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5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5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50"/>
                            </p:stCondLst>
                            <p:childTnLst>
                              <p:par>
                                <p:cTn id="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5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 –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иска в булочке. В типичном хот – доге с булочкой 45%  дневной нормы потреблениям (ДНП) вредных (насыщенных) жиров, 38%  ДНП соли, 13% ДНП холестерина, 15% углеводов, 1,5 г вреднейших трансжи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486400" y="1881360"/>
            <a:ext cx="335916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ка-к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юдям обещали средство от импотенции и нервных расстройств. На самом деле кола  это напиток разрушающий эмаль зубов и грозящий ожире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191120" y="1523880"/>
            <a:ext cx="2447640" cy="37432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477120" y="3753000"/>
            <a:ext cx="26668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st 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94240" cy="4800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45212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1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3170160" cy="3657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048120" y="1371600"/>
            <a:ext cx="351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76201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0:49:27Z</dcterms:created>
  <dc:creator>Иришка</dc:creator>
  <dc:description/>
  <dc:language>en-US</dc:language>
  <cp:lastModifiedBy>XTreme</cp:lastModifiedBy>
  <dcterms:modified xsi:type="dcterms:W3CDTF">2009-01-28T18:53:4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